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1D0-3AF6-41B5-A12D-FD994D2D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75C-3018-4FE9-B3B6-E0C9F05A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D4F-076B-403C-8314-CE2708B1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7C0-0DE5-42EF-B0DC-1514FEE1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E6B3-1B30-4C2A-9B84-33DD824C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C68-78FD-4238-B6CF-488EC262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402-4E57-4DFE-91A7-5ACF0CDD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BEFE-1BC7-4929-8F4F-27A0D7D9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A06-8018-4CD0-BE7E-4AC299AF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69C-043A-4588-BF90-7BAD31E1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B12-C7C4-4F66-B845-47D3EA5D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0F4-05DD-4795-9249-C63F3ACF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108B-6B0A-43DA-8E71-33287DBAF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s.wikipedia.org/wiki/Poderosa_Afrodita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DIPO R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mito de Edipo Rey es una tragedia griega, en la que vemos como una persona puede llegar a cometer los más espantosos crím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311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ta Martínez Monterro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batx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es de la trag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o que provoca la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ios de estar implicado en la investi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ado final de la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yo y Yocasta acaban casándose cuando Layo recuperó el tr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2735280" cy="381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448000" cy="388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yo y Yocasta tienen a su hijo Ed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7200" y="1600200"/>
            <a:ext cx="4038480" cy="4565520"/>
            <a:chOff x="457200" y="1600200"/>
            <a:chExt cx="4038480" cy="45655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457200" y="1600200"/>
              <a:ext cx="4038480" cy="4565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ndo nace Edipo, Layo se lo entrega a un pastor, y este se lo dio a su amo, el fue quien lo crió, se lo entrego a este pastor porque temía que se cumpliera el oráculo, en el que Apolo le anunció que terminaría muriendo en manos de su h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dipo cuando es joven se entera de que Pólibo no es su verdadero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2592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se enteró decidió ir a buscar a su verdadera familia, en el camino ocurrió una disputa en la que Edipo mato a Layo, sin saber que el era su verdadero p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dipo llega finalmente a Teb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vez en tebas, Edipo acaba con la esfinge que dominaba el pueblo y se gano la mano de Yocasta, vuida de Layo, y con ella tubo 4 hi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el paso del tiempo se llega a conocer toda la ver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476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verdad es que Edipo se ha casado con su madre, Yocasta, y que el fue quien mato a su propio padre, esto provocó que Yocasta se suicidara y que Edipo se arrancara los ojos, porque nada de lo que había vivido era re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30243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lículas referentes a Edipo R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demos encontrar varias películas que tienen como referente  Edipo Rey de Sóflocles. Son las siguientes entre much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erosa Afrod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á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Intérp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Historia O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os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3529080" cy="2333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600360" cy="2376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3529080" cy="2519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859280" y="3938760"/>
            <a:ext cx="360036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0:20:33Z</dcterms:created>
  <dc:creator>WinuE</dc:creator>
  <dc:description/>
  <dc:language>en-US</dc:language>
  <cp:lastModifiedBy>WinuE</cp:lastModifiedBy>
  <dcterms:modified xsi:type="dcterms:W3CDTF">2010-04-18T19:27:04Z</dcterms:modified>
  <cp:revision>4</cp:revision>
  <dc:subject/>
  <dc:title>EDIPO REY</dc:title>
</cp:coreProperties>
</file>